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3EE-78FB-4517-B48F-2EF85A6E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3B5-92F0-420F-A888-60EEFF62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BB9EC0-088A-4813-A447-3623789C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D4C426-E4AE-48A3-9307-14AF23DB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687A84-9ABA-4E4B-8437-8808F4AE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35382F-14CE-4C8A-ABA7-CF52EB06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0559DD-C025-4827-AE2F-E22A9AAF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328B21-BCB6-4C54-B78B-E63A3EF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C042AD-CCD0-4D31-BF80-93E1BDE2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3DCA8A-8FD9-4FD6-9B71-4F30060F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F05BF1-6741-43BB-9869-FF5C3A2F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6D6-2FEA-49D2-8E8C-B63D56E1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CCD-55BC-496F-8BBB-952404A7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45FCE-3A7A-4A2E-8C3A-CB407BA3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7B14F-007D-451B-8343-0925D05B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8E2AB-D9CE-43A3-AE2B-D50EF77F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0C5E9-C714-415E-ADB7-63D75CBD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3AEF0-D4DA-423A-90F9-C19D1A82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FBEE8-5FD3-405C-8127-24F2233D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FE9FD-8573-47C0-AB8F-E91F00C4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2AE-48AC-4134-BDEB-2A84FF91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D1B55-3ED1-4133-BE82-ED82FB45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09755-EC35-4C9F-A7A4-DB0AAF92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265CF-20EB-4613-9295-6E675E29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62AC5-1811-4358-848C-5A2771E3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18C1A-2F04-4733-BD04-C644A299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0E29-195A-4F35-AA40-6B32D936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6ABE2-221D-40B1-8F69-EEF2F435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BCAC-D94F-41F9-986D-070B7AE5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BC2C0-F6E9-4C68-9DE7-ADA29EB2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6AFA-6788-4626-98A3-7270B516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E75-F0E0-472E-A6BA-8A1560B2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A4A50-AD6F-4779-B8E6-100C82A9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B965-6B98-4612-9DF7-B8371DE2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6935-5FD6-46C2-A5A3-1A972338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E2A8-12D1-47B4-80F8-37901445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5A04-24CE-4FAF-B51A-64E216E4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A06B-F51E-44E1-A0E1-4857B2D7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429B-4F5C-468B-8E48-8FBD6E19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2C1E6-6EEE-479C-8A82-0268F15D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4DFD9-0D56-44A1-96F4-B5048B84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F05F60-2F04-4ABC-88F3-D12B887C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D37-4213-438F-AA4E-FB510C2F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53194-A855-4A3F-9264-2AA33F02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F01DE-15AA-455C-B67D-6520C7D2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79983-CBC7-4995-879E-B70FC8F4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63CAED-9DE4-4298-8259-575EB616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76690-3CD5-4309-A8C0-23A1DA8C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788EF-B2EE-4889-854C-6118E936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6BF381-CC63-48AA-8A76-5A2F5B54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B52B5-0D64-49BD-AFBF-6EB76F94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9D6F9-AD77-4086-B7B7-C68E1655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8095-9A79-4858-A1C2-22B80CBA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2E1-45D7-4EB2-973D-DADCE009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286B6-DAB2-4595-81B1-873509AB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B1F9-716D-4D31-AB9B-497758E6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3B09B-666B-406B-8E0A-3A3C29FA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BA1C-D535-41F2-A63B-97EFFAA7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80376-219E-431B-805A-6734EE8E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29F73-D8A2-493F-9B09-3A8653DB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FCA3C-7200-4E20-9B7C-3E6014EF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1E00B-E25A-47ED-B8AB-8BBB1266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51888-28DE-48FD-A52E-2D6F710C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B525E-351F-4E1D-BB87-F0ED8F55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18E-51C9-4EB5-86FE-3A3BE6DB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BF107-CEE4-4FD3-89EC-E5F07203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2B65D-6FAF-40DA-BDF5-EA16A8E1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D625-4ED3-4133-AE91-644FC3AD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C027E-9076-4525-8076-21C8A0A9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30008-E6B4-4DBC-B757-7618CE3F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C3729-E34F-416A-A60D-155D2B89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0C16E-3FAD-4FCB-B402-B9844C42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701B1-80AC-400E-94AA-BE9116F8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E3E65-0A6B-4C2E-8E5D-B99851BF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B69BE-3E01-4A04-AE86-8CAF2A09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853-2B96-435D-BA29-27AF2F9E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9049C-7774-4B80-BCDE-FA0313FE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D1CAB-B1CF-42C6-A56A-FE8ABC90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0ADD1-9BE1-42C9-96A1-2AEA616F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2515A-4D87-4702-84A6-B44BD8B4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C2A64-30A4-43E9-B0E4-31787E99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8ABA0-2A7A-4CDB-AED4-B75AC64D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7F87D-D157-4B8A-8B17-432CCDDF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7D6D7-2ED0-4203-9815-481433DA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CA60E-DF94-4428-9CD1-127C94A1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01ACB-C70D-4E41-9983-39A16E4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0AC-DCD7-4176-BC57-486CADD2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13462-BB64-4C76-830C-F8A2B904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F3197-7C8D-4212-8A80-0DD58037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436FB-8F01-49D8-84CC-48FF605E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AEB65-11C4-47FC-85A4-10922760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552A-9221-4522-BCC8-060FBB8C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FFE414-8B17-4F3E-A638-B0164160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D1413-16F3-43B0-B35D-E4842E35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487C29-4400-45AB-BA12-2DAED813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8FDE8-FAE0-4C21-8AB2-E1AB8316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8F2FA3-CB81-450A-BCF4-2091E4BD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49F-A705-4BC5-A657-2D820647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61DFEF-E6A6-4743-9B2D-0AFDC5F7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F7A95B-03B4-4EC5-9FC2-8E3FFE48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6949D7-E2B0-4901-9DE1-8761A220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1EEFEC-3C25-4C04-88A3-9A42ED4B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41E746-CD1D-44FB-9D90-D8C5AEC6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F98DA5-C6C4-47AA-BD46-A708EF5A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6E7132-7017-4B89-8E6A-13E10CA9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0CC6D-EC82-4D0B-8814-895C5DAA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9DCC85-4B0A-41B2-97AE-4A6DA374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901DA1-D3B0-4787-B8E8-0DB0450A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89B3-4C2A-4DFD-B5E0-85DF63839F0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6F19-084F-4D51-BB86-3C8FDA2A568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6F7C-DF6A-4166-B4DE-B7387A6BB0F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5A7D-AA43-4E4F-BC1B-1291513F338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D64E-840B-4450-A0AD-569478AC133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37A4-BDC0-4B2A-A7DD-4AF5B45A9D8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6561-2304-4422-BA3E-7F07E3355F4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36DF-CEDB-4979-9388-6517BD576B6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50C8-516D-4352-B18E-AED6434AD0C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Rockwell"/>
              </a:rPr>
              <a:t>Maddy Spiegel, Nico Castanga, and Henry Lich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5" descr="http://upload.wikimedia.org/wikipedia/commons/thumb/5/5e/Water_drop_001.jpg/300px-Water_drop_001.jpg"/>
          <p:cNvPicPr/>
          <p:nvPr/>
        </p:nvPicPr>
        <p:blipFill>
          <a:blip r:embed="rId2"/>
          <a:stretch/>
        </p:blipFill>
        <p:spPr>
          <a:xfrm>
            <a:off x="1066680" y="41911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rticles in liquids and gases have kinetic energy that allows them to flow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uids have the ability to conform to their contain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9" name="Picture 5" descr="http://www.chemguide.co.uk/physical/kt/sealed1.gif"/>
          <p:cNvPicPr/>
          <p:nvPr/>
        </p:nvPicPr>
        <p:blipFill>
          <a:blip r:embed="rId2"/>
          <a:stretch/>
        </p:blipFill>
        <p:spPr>
          <a:xfrm>
            <a:off x="4114800" y="3352680"/>
            <a:ext cx="335268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quids particles are very close together which gives them a definite volume, where gas volume is determined by press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quids as well as solids are called condensed states of matter because their volume is not affected by press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Vaporization that occurs when liquid particles have enough kinetic energy to overcome the attraction and become a free gas particl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ating increases kinetic energy and therefore makes evaporation fast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4" name="Picture 5" descr="http://upload.wikimedia.org/wikipedia/commons/thumb/3/37/Watervapor_cup.jpg/220px-Watervapor_cup.jpg"/>
          <p:cNvPicPr/>
          <p:nvPr/>
        </p:nvPicPr>
        <p:blipFill>
          <a:blip r:embed="rId2"/>
          <a:stretch/>
        </p:blipFill>
        <p:spPr>
          <a:xfrm>
            <a:off x="5791320" y="4572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a system at constant vapor pressure, a dynamic equilibrium exists between both the vapor and the liqui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 is at a state of equilibrium because the rate of evaporation of liquid equals the rate of condensation of vapo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9) The kinetic energy in liquids causes them to loosely flow around each other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10) If particles acquire enough Kinetic energy, they take a gaseous form. The more particles that take a gaseous form, the higher the vapor pressure is.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11) “Pressure” describes any force exerted onto matter. “Vapor Pressure” is a form pressure exerted from a gas onto a liquid below.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12)Vaporization is the conversion of a liquid into a gas. Evaporation is vaporization that isn’t caused by boiling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49:32Z</dcterms:created>
  <dc:creator>14hlicht</dc:creator>
  <dc:description/>
  <dc:language>en-US</dc:language>
  <cp:lastModifiedBy>14hlicht</cp:lastModifiedBy>
  <dcterms:modified xsi:type="dcterms:W3CDTF">2012-04-30T17:35:20Z</dcterms:modified>
  <cp:revision>10</cp:revision>
  <dc:subject/>
  <dc:title>The Nature of Liquids</dc:title>
</cp:coreProperties>
</file>